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78F1-0020-427D-95C7-32BBCEA2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9992-8F1D-417D-8C68-67212C60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B9A-CDA1-4B39-9292-402D3201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14E-65D8-451C-8D72-06C81B51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9AD-35BA-485A-92FD-02B3B187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D29F-B604-4C7F-BAF2-CA04429C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5CE7-06E5-493D-BE84-E111306D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B0E-F864-4E83-823D-EFD6E6FE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5BC-E551-4DE0-98E9-5F40D668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FD8D-96C2-40FF-93B2-A688C644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8100-47DC-466C-8942-5526AA6D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F81-F87B-42A9-8408-F2C1B513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F892-8944-42FA-826A-76E68A745B9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%202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agora_02" descr=""/>
          <p:cNvPicPr/>
          <p:nvPr/>
        </p:nvPicPr>
        <p:blipFill>
          <a:blip r:embed="rId2"/>
          <a:srcRect l="45198" t="71166" r="0" b="0"/>
          <a:stretch/>
        </p:blipFill>
        <p:spPr>
          <a:xfrm>
            <a:off x="620640" y="6095880"/>
            <a:ext cx="1371600" cy="762120"/>
          </a:xfrm>
          <a:prstGeom prst="rect">
            <a:avLst/>
          </a:prstGeom>
          <a:ln w="0">
            <a:noFill/>
          </a:ln>
        </p:spPr>
      </p:pic>
      <p:pic>
        <p:nvPicPr>
          <p:cNvPr id="43" name="agora_03" descr=""/>
          <p:cNvPicPr/>
          <p:nvPr/>
        </p:nvPicPr>
        <p:blipFill>
          <a:blip r:embed="rId3"/>
          <a:srcRect l="0" t="71166" r="0" b="0"/>
          <a:stretch/>
        </p:blipFill>
        <p:spPr>
          <a:xfrm>
            <a:off x="1992240" y="6095880"/>
            <a:ext cx="250344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agora_04" descr=""/>
          <p:cNvPicPr/>
          <p:nvPr/>
        </p:nvPicPr>
        <p:blipFill>
          <a:blip r:embed="rId4"/>
          <a:srcRect l="0" t="71166" r="0" b="0"/>
          <a:stretch/>
        </p:blipFill>
        <p:spPr>
          <a:xfrm>
            <a:off x="4495680" y="6095880"/>
            <a:ext cx="2502000" cy="762120"/>
          </a:xfrm>
          <a:prstGeom prst="rect">
            <a:avLst/>
          </a:prstGeom>
          <a:ln w="0">
            <a:noFill/>
          </a:ln>
        </p:spPr>
      </p:pic>
      <p:pic>
        <p:nvPicPr>
          <p:cNvPr id="45" name="agora_05" descr=""/>
          <p:cNvPicPr/>
          <p:nvPr/>
        </p:nvPicPr>
        <p:blipFill>
          <a:blip r:embed="rId5"/>
          <a:srcRect l="0" t="71166" r="35128" b="0"/>
          <a:stretch/>
        </p:blipFill>
        <p:spPr>
          <a:xfrm>
            <a:off x="6997680" y="6095880"/>
            <a:ext cx="1623960" cy="762120"/>
          </a:xfrm>
          <a:prstGeom prst="rect">
            <a:avLst/>
          </a:prstGeom>
          <a:ln w="0">
            <a:noFill/>
          </a:ln>
        </p:spPr>
      </p:pic>
      <p:pic>
        <p:nvPicPr>
          <p:cNvPr id="46" name="Agorà Logo" descr=""/>
          <p:cNvPicPr/>
          <p:nvPr/>
        </p:nvPicPr>
        <p:blipFill>
          <a:blip r:embed="rId6"/>
          <a:stretch/>
        </p:blipFill>
        <p:spPr>
          <a:xfrm>
            <a:off x="4911840" y="0"/>
            <a:ext cx="4232160" cy="1938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0" y="228600"/>
            <a:ext cx="9144000" cy="5791320"/>
          </a:xfrm>
          <a:prstGeom prst="rect">
            <a:avLst/>
          </a:prstGeom>
        </p:spPr>
        <p:txBody>
          <a:bodyPr wrap="none" lIns="90000" rIns="90000" tIns="46800" bIns="46800" anchor="t">
            <a:prstTxWarp prst="textCurveDown">
              <a:avLst>
                <a:gd name="adj" fmla="val 49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Bookman Old Style"/>
              </a:rPr>
              <a:t>DOVE V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Bookman Old Style"/>
              </a:rPr>
              <a:t>L'UNIVERSITÀ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Bookman Old Style"/>
              <a:ea typeface="Bookman Old Style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IVERSITA’ A NOV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19040" y="727200"/>
          <a:ext cx="8305920" cy="6054480"/>
        </p:xfrm>
        <a:graphic>
          <a:graphicData uri="http://schemas.openxmlformats.org/drawingml/2006/table">
            <a:tbl>
              <a:tblPr/>
              <a:tblGrid>
                <a:gridCol w="6877080"/>
                <a:gridCol w="1428840"/>
              </a:tblGrid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diploma univ SERVIZIO SOCIALE</a:t>
                      </a: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 </a:t>
                      </a:r>
                      <a:br>
                        <a:rPr sz="2800"/>
                      </a:b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(FACOLTA' SCIENZE POLITICH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corso laurea SERVIZIO SOCIALE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 </a:t>
                      </a:r>
                      <a:br>
                        <a:rPr sz="2800"/>
                      </a:b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(FACOLTA' SCIENZE POLITICH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1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corso laurea SCIENZA DEI MATERIALI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(FACOLTA' DI SCIENZE MM.FF.N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Corso laurea INFORMATICA </a:t>
                      </a:r>
                      <a:br>
                        <a:rPr sz="2400"/>
                      </a:b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(FACOLTA' DI SCIENZE MM.FF.N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1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Corso laurea interfac. EDUC. PROFESS.          </a:t>
                      </a: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(FAC LETT.FILOS. - MEDIC.CHIR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Corso laurea interfac.BIOTECNOLOGIE</a:t>
                      </a: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 </a:t>
                      </a:r>
                      <a:br>
                        <a:rPr sz="2800"/>
                      </a:b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( FARM - MED CHIR-  SC. MM.FF.N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1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Facoltà di ECONOM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18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Facoltà di FARMA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6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Facoltà di MEDICINA E CHIRURG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MS Sans Serif"/>
                        </a:rPr>
                        <a:t>10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IVERSITA’ A NOV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335240" y="1295280"/>
          <a:ext cx="6472080" cy="46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5240" y="1295280"/>
                    <a:ext cx="6472080" cy="464976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981080" y="1523880"/>
            <a:ext cx="44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NIENZA STUDENT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critti alle facoltà novar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IVERSITA’ A NOV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35240" y="1295280"/>
          <a:ext cx="6472080" cy="46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5240" y="1295280"/>
                    <a:ext cx="6472080" cy="464976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363760" y="1447920"/>
            <a:ext cx="44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NIENZA STUDENT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critti alle facoltà novar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IVERSITA’ A NOV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324160" y="1447920"/>
          <a:ext cx="4495680" cy="5175000"/>
        </p:xfrm>
        <a:graphic>
          <a:graphicData uri="http://schemas.openxmlformats.org/drawingml/2006/table">
            <a:tbl>
              <a:tblPr/>
              <a:tblGrid>
                <a:gridCol w="2781360"/>
                <a:gridCol w="171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linza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goman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e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i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gg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ent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ec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gen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tano Pri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rbi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7621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uni col Maggior Numero di Universitari Iscri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OGO%202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agora_02" descr=""/>
          <p:cNvPicPr/>
          <p:nvPr/>
        </p:nvPicPr>
        <p:blipFill>
          <a:blip r:embed="rId2"/>
          <a:srcRect l="45198" t="71166" r="0" b="0"/>
          <a:stretch/>
        </p:blipFill>
        <p:spPr>
          <a:xfrm>
            <a:off x="620640" y="6095880"/>
            <a:ext cx="137160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agora_03" descr=""/>
          <p:cNvPicPr/>
          <p:nvPr/>
        </p:nvPicPr>
        <p:blipFill>
          <a:blip r:embed="rId3"/>
          <a:srcRect l="0" t="71166" r="0" b="0"/>
          <a:stretch/>
        </p:blipFill>
        <p:spPr>
          <a:xfrm>
            <a:off x="1992240" y="6095880"/>
            <a:ext cx="2503440" cy="762120"/>
          </a:xfrm>
          <a:prstGeom prst="rect">
            <a:avLst/>
          </a:prstGeom>
          <a:ln w="0">
            <a:noFill/>
          </a:ln>
        </p:spPr>
      </p:pic>
      <p:pic>
        <p:nvPicPr>
          <p:cNvPr id="64" name="agora_04" descr=""/>
          <p:cNvPicPr/>
          <p:nvPr/>
        </p:nvPicPr>
        <p:blipFill>
          <a:blip r:embed="rId4"/>
          <a:srcRect l="0" t="71166" r="0" b="0"/>
          <a:stretch/>
        </p:blipFill>
        <p:spPr>
          <a:xfrm>
            <a:off x="4495680" y="6095880"/>
            <a:ext cx="2502000" cy="762120"/>
          </a:xfrm>
          <a:prstGeom prst="rect">
            <a:avLst/>
          </a:prstGeom>
          <a:ln w="0">
            <a:noFill/>
          </a:ln>
        </p:spPr>
      </p:pic>
      <p:pic>
        <p:nvPicPr>
          <p:cNvPr id="65" name="agora_05" descr=""/>
          <p:cNvPicPr/>
          <p:nvPr/>
        </p:nvPicPr>
        <p:blipFill>
          <a:blip r:embed="rId5"/>
          <a:srcRect l="0" t="71166" r="35128" b="0"/>
          <a:stretch/>
        </p:blipFill>
        <p:spPr>
          <a:xfrm>
            <a:off x="6997680" y="6095880"/>
            <a:ext cx="1623960" cy="762120"/>
          </a:xfrm>
          <a:prstGeom prst="rect">
            <a:avLst/>
          </a:prstGeom>
          <a:ln w="0">
            <a:noFill/>
          </a:ln>
        </p:spPr>
      </p:pic>
      <p:pic>
        <p:nvPicPr>
          <p:cNvPr id="66" name="Agorà Logo" descr=""/>
          <p:cNvPicPr/>
          <p:nvPr/>
        </p:nvPicPr>
        <p:blipFill>
          <a:blip r:embed="rId6"/>
          <a:stretch/>
        </p:blipFill>
        <p:spPr>
          <a:xfrm>
            <a:off x="4911840" y="0"/>
            <a:ext cx="4232160" cy="1938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0" y="228600"/>
            <a:ext cx="9144000" cy="5791320"/>
          </a:xfrm>
          <a:prstGeom prst="rect">
            <a:avLst/>
          </a:prstGeom>
        </p:spPr>
        <p:txBody>
          <a:bodyPr wrap="none" lIns="90000" rIns="90000" tIns="46800" bIns="46800" anchor="t">
            <a:prstTxWarp prst="textCurveDown">
              <a:avLst>
                <a:gd name="adj" fmla="val 49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Bookman Old Style"/>
              </a:rPr>
              <a:t>DOVE V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Bookman Old Style"/>
              </a:rPr>
              <a:t>L'UNIVERSITÀ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Bookman Old Style"/>
              <a:ea typeface="Bookman Old Style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12:41:05Z</dcterms:created>
  <dc:creator> </dc:creator>
  <dc:description/>
  <dc:language>en-US</dc:language>
  <cp:lastModifiedBy>riccardo</cp:lastModifiedBy>
  <dcterms:modified xsi:type="dcterms:W3CDTF">2003-05-29T18:32:52Z</dcterms:modified>
  <cp:revision>5</cp:revision>
  <dc:subject/>
  <dc:title>Presentazione di PowerPoint</dc:title>
</cp:coreProperties>
</file>